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DCF-0863-49ED-8614-B646EBE6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DA8-790C-4F17-BF21-80CA3EF2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EE2-D360-4BE2-80BC-562CC34C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D15-AB4D-4F48-BB9A-C37343AB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DFC-A340-4108-B1E1-51FA4BD5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3C9-90FC-40D7-8265-1C41AE22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942-D039-4DB8-B26E-825DF904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E96A-1522-4779-BD6B-AC337D8C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2E1-9B9A-4C45-ABB7-2D8EFB9F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814-F6E5-4A94-BE1D-58702FB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0E5-543E-46D9-A1DE-2273A8B4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807-B01D-4DC8-A1F5-E849E39D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18C7-31C8-49C3-813A-772953AAD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cc"/>
                </a:solidFill>
                <a:latin typeface="Arial"/>
              </a:rPr>
              <a:t>Poet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llustrated with the Assistanc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rt &amp; Technology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2816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83160" y="628164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 rot="16200000">
            <a:off x="-1991880" y="252540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5400000">
            <a:off x="6575040" y="252576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 rot="5400000">
            <a:off x="6575040" y="3668760"/>
            <a:ext cx="456084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 rot="5400000">
            <a:off x="-1992600" y="3744720"/>
            <a:ext cx="4560840" cy="576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28954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By the 2</a:t>
            </a:r>
            <a:r>
              <a:rPr b="1" i="1" lang="en-US" sz="24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 Grad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200" y="538200"/>
            <a:ext cx="8933040" cy="578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480" y="579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 tiger is wild. A tiger is fast. A tiger is striped. A tiger is a carnivore. A tiger is a mam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057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an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0574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2096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ustrated by: Randy,James &amp; Ch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9360" y="-76320"/>
            <a:ext cx="91627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457200"/>
            <a:ext cx="7391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hting is b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hting is sca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hting is fake in so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hting is a ga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hting is sad.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4191120"/>
            <a:ext cx="24382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 by Rheese Adam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ed b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heese Adam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iley Pol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in Sz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5562720" cy="586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563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The flower is colo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The flower is 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The flower is 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The flower is pur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The flowers middle is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Poem by Annika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Illustr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Annika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eestyle Script"/>
              </a:rPr>
              <a:t>Brooke T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52280" y="49528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391520" y="4876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0" y="1522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96480" cy="577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4120" y="533520"/>
            <a:ext cx="32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609480"/>
            <a:ext cx="297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Florida is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Florida is 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Florida is c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Florida is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Florida is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457200"/>
            <a:ext cx="2667240" cy="225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lorida is f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lorida is 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lorida is 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lorida is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lorida is beauti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3886200"/>
            <a:ext cx="304776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Written by Che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ff"/>
                </a:solidFill>
                <a:latin typeface="Arial"/>
              </a:rPr>
              <a:t>Illustrated by Cheyenne, Sydney, &amp; All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280" y="152280"/>
            <a:ext cx="2895840" cy="116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Written by Hann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Illustrated by Hannah, Kathleen, &amp; Mad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3080" y="547560"/>
          <a:ext cx="8999640" cy="576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547560"/>
                    <a:ext cx="899964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52280" y="1752480"/>
            <a:ext cx="3276720" cy="95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66"/>
                </a:solidFill>
                <a:latin typeface="Baskerville Old Face"/>
              </a:rPr>
              <a:t>Written by M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66"/>
                </a:solidFill>
                <a:latin typeface="Baskerville Old Face"/>
              </a:rPr>
              <a:t>Illustrations by Mike, Jacob, &amp; P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04920" y="5638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Poem Written By: Hanna Bre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56386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Illustrated by: Jessica Tellez, Jessica Horvath, and Hanna Bre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0"/>
            <a:ext cx="3886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askerville Old Face"/>
              </a:rPr>
              <a:t>A frog is c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askerville Old Face"/>
              </a:rPr>
              <a:t>A frog is an amphibi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askerville Old Face"/>
              </a:rPr>
              <a:t>A frog is gre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askerville Old Face"/>
              </a:rPr>
              <a:t>A frog is not a rep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6840" y="571680"/>
            <a:ext cx="89517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838080"/>
            <a:ext cx="198144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iger is a mammal, it is faster than a camel. A tiger is wild and hairy, it is striped orange and black and is very mer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by Jac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ustrated by Jacob, Colton, and Ri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440" y="0"/>
            <a:ext cx="9087120" cy="6629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81080" y="5715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nap ITC"/>
              </a:rPr>
              <a:t>Illustrated By: Joe Dreiman, Adam Hanson, and Carl Michal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49528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nap ITC"/>
              </a:rPr>
              <a:t>written By: Joe Drei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-685800" y="-2209680"/>
          <a:ext cx="11506320" cy="83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5800" y="-2209680"/>
                    <a:ext cx="11506320" cy="83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267080" y="3581280"/>
            <a:ext cx="6248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y Famil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mily is c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mily is fu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mily is si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mily is we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family is cra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952880"/>
            <a:ext cx="4038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By: Jacklyn Tel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ustrated By: Jacklyn Tellez, Kaitlyn Sniadecki, and Courtney Lyczy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28800" y="4038480"/>
            <a:ext cx="57913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Tennessee is h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Tennessee is a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Tennessee is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Tennessee i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 Stout"/>
              </a:rPr>
              <a:t>Tennessee is awesome</a:t>
            </a:r>
            <a:r>
              <a:rPr b="0" lang="en-US" sz="2400" spc="-1" strike="noStrike">
                <a:solidFill>
                  <a:srgbClr val="ccecff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981080" y="228600"/>
            <a:ext cx="47912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nnesse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 rot="5400000">
            <a:off x="5795640" y="3195360"/>
            <a:ext cx="566748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BY NOAH GUES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624852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ppoBlaD"/>
              </a:rPr>
              <a:t>Illustrated by Andy Ellis, Nate Roberson, and Noah Gues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1:44:54Z</dcterms:created>
  <dc:creator>Patrick Mooney</dc:creator>
  <dc:description/>
  <dc:language>en-US</dc:language>
  <cp:lastModifiedBy>Patrick J. Mooney</cp:lastModifiedBy>
  <dcterms:modified xsi:type="dcterms:W3CDTF">2010-05-03T15:26:27Z</dcterms:modified>
  <cp:revision>15</cp:revision>
  <dc:subject/>
  <dc:title>Poetry</dc:title>
</cp:coreProperties>
</file>